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2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40.jpeg" ContentType="image/jpeg"/>
  <Override PartName="/ppt/media/image44.png" ContentType="image/png"/>
  <Override PartName="/ppt/media/image4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DBC-38D8-4542-8FC0-A76D1BC1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2C3-A621-4DA4-9AC7-4DA5071FB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E0A-0F44-4FE3-B322-7379D0A5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3DB-535F-41CA-974D-D25C29F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4CA-642D-4A69-9E23-66468916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E5A-C556-4711-8C04-9FA34BCE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CEB-2968-48AA-A907-ACC3EB6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D9E-79F4-4FAD-948F-1D4D3A9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259-807E-46BB-9567-28CFA48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818-20A3-4577-A0AA-7C427404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7C5-DD8F-45E7-B51B-A6052F9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BD5-CC31-489A-8283-DC908DB1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D72-CDDF-4CA7-A358-FF68770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8C9-0891-4EB9-B83E-CBA451F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AD1-9614-467A-82D5-59C74845D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79280" y="5516280"/>
            <a:ext cx="51814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др Владимир Јаковље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009880" y="1197000"/>
            <a:ext cx="52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терг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95280" y="170028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ологија ћелијске мембране и ексцитабилних ткива, Физиологија кардиоваскуларног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971640" y="306864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наставна јединиц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ћ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 недељ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иологија с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у деполариза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роз брзе, волтаж-зависне натријумске канале (натријумска струј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при чему вердност мембранског потенцијала тежи да достигне равнотежни потенцијал з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2708280" y="3213000"/>
            <a:ext cx="3727440" cy="3456000"/>
          </a:xfrm>
          <a:prstGeom prst="rect">
            <a:avLst/>
          </a:prstGeom>
          <a:ln w="0">
            <a:noFill/>
          </a:ln>
        </p:spPr>
      </p:pic>
      <p:sp>
        <p:nvSpPr>
          <p:cNvPr id="87" name="Oval 7"/>
          <p:cNvSpPr/>
          <p:nvPr/>
        </p:nvSpPr>
        <p:spPr>
          <a:xfrm>
            <a:off x="3635280" y="4653000"/>
            <a:ext cx="2890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48000" y="602136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четну (иницијалну) р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тварања канала за натриј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услед чега се смањује количина позитивног наелектрисања које улази у ћелију,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тварања канала за кал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услед чега се повећава количина позитивног наелектрисања које излази из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041640" y="3141720"/>
            <a:ext cx="3060720" cy="28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3041640" y="5950080"/>
            <a:ext cx="3060720" cy="507960"/>
          </a:xfrm>
          <a:prstGeom prst="rect">
            <a:avLst/>
          </a:prstGeom>
          <a:ln w="0">
            <a:noFill/>
          </a:ln>
        </p:spPr>
      </p:pic>
      <p:sp>
        <p:nvSpPr>
          <p:cNvPr id="93" name="Oval 7"/>
          <p:cNvSpPr/>
          <p:nvPr/>
        </p:nvSpPr>
        <p:spPr>
          <a:xfrm>
            <a:off x="3924360" y="314172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8"/>
          <p:cNvSpPr/>
          <p:nvPr/>
        </p:nvSpPr>
        <p:spPr>
          <a:xfrm>
            <a:off x="3708360" y="5445000"/>
            <a:ext cx="2872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3708360" y="6093000"/>
            <a:ext cx="2872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лато фа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пролазн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пустљивос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мембране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усле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ијег и продуженог отварања волтаж-зависних канала за калцијум и улас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кардиомиоците (C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труја, I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C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као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водљивос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384720" cy="246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3384720" cy="1157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3141720"/>
            <a:ext cx="52927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творени су спори волтаж-зависни калцијумско-натријумски канали као и спори волтаж-зависни калијумски кан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уђе у кардиомиоците и К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изађе је приближно иста, па се потенцијал мембране одржава на плато нив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6588000" y="3284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5940360" y="5661000"/>
            <a:ext cx="165600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6012000" y="6093000"/>
            <a:ext cx="1657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оводљивос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јон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е смањуј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к се проводљивос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јон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творени су спори волтаж-зависни калцијумско-натријум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нали док су спори волтаж-зависни калијумски канали о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сока проводљивост за јон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води до великог изласк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19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што враћа потенцијал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ембране према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равнотежном потенцијалу за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862360" y="3313080"/>
            <a:ext cx="3419280" cy="2492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862360" y="5818320"/>
            <a:ext cx="3419280" cy="56340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5364000" y="587700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413000"/>
            <a:ext cx="850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ировни мембрански потенција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 мировног мембранског потенцијала је око -90 mV, што је приближно равнотежном потенцијал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К</a:t>
            </a:r>
            <a:r>
              <a:rPr b="1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мировног мембранског потенцијала количина јона која уђе у кардиомиоците и која из њих изађе ј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ближно 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862360" y="3500280"/>
            <a:ext cx="3419280" cy="2492640"/>
          </a:xfrm>
          <a:prstGeom prst="rect">
            <a:avLst/>
          </a:prstGeom>
          <a:ln w="0">
            <a:noFill/>
          </a:ln>
        </p:spPr>
      </p:pic>
      <p:sp>
        <p:nvSpPr>
          <p:cNvPr id="113" name="Oval 4"/>
          <p:cNvSpPr/>
          <p:nvPr/>
        </p:nvSpPr>
        <p:spPr>
          <a:xfrm>
            <a:off x="5940360" y="5589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Ексци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фаза 0, 1 и 2, као и током половине фазе 3 акционог потенцијала комора и преткомора, однос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 мембрански потенцијал не достигне приближно –50 mV за време реполаризације, срчани мишић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и поново надр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ом ових фаза акционог потенцијала срчани мишић се налази 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солутном рефракторном пери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17" name="Oval 4"/>
          <p:cNvSpPr/>
          <p:nvPr/>
        </p:nvSpPr>
        <p:spPr>
          <a:xfrm>
            <a:off x="3995640" y="602136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Ексци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8960" y="1700280"/>
            <a:ext cx="8506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псолутни рефрактарни период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током кога акциони потенцијал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 мож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се изазове без обзира на јачину стимулуса, јер 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и који узрокују деполаризацију још увек у инактивираном ста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 половина реполаризације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елативн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рактарни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Ексци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8960" y="1341000"/>
            <a:ext cx="850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релативног рефрактарног периода акциони потенцијал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а се изазове, али је потребан знатн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имулу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јер је де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а још увек у инактивираном стању, а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и су још увек отвор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остојање дугог рефрактарног периода спречава тетанизацију срчаног мишића, која би била летална у било ком пери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6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Структура кардиомиоц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5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рком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тилна јединица мишићне ћелије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чна је контрактилној јединици у скелетном миши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 се између дв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и дебеле филамент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озин: тешки (2) и лаки ланци (4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танке филамент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н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опон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опомиоз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 у скелетном мишић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ење се јавља у складу са моделом клизања фила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зање танких филамената дуж суседних дебелих филаменатастварањем попречних мостова између актина и мио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тохонд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није у срчаном него у скелетном миши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хематски приказ структуре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29640" cy="5535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826920" y="6237360"/>
            <a:ext cx="289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Ð ÐµÐ·ÑÐ»ÑÐ°Ñ ÑÐ»Ð¸ÐºÐ° Ð·Ð° srce gradja"/>
          <p:cNvPicPr/>
          <p:nvPr/>
        </p:nvPicPr>
        <p:blipFill>
          <a:blip r:embed="rId1"/>
          <a:stretch/>
        </p:blipFill>
        <p:spPr>
          <a:xfrm>
            <a:off x="3780000" y="3213000"/>
            <a:ext cx="508464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250920" y="112536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рце се састоји од две одвојен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"десно"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р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умпа крв кроз плућ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"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лево"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р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умпа крв кроз периферне орг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вака 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 две половине је пулзирајућа пумпа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стој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ве шупљине: преткоморе и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703520" y="333360"/>
            <a:ext cx="59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7030a0"/>
                </a:solidFill>
                <a:latin typeface="Arial"/>
              </a:rPr>
              <a:t>Функционална анатомија 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50920" y="2997360"/>
            <a:ext cx="44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ред тога, у срцу постоје 4 залист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триовентрикулар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трикуспидни (3 кусп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митрални (2 кусп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Структура кардиомиоц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аркотубулар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 тубули 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ају већи дијаметар у срцу него у скелетном мишић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 тубулу су добро су развијени у коморам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 слабо у преткоморама (формирај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д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саркоплазматским ретикулум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оред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који се у саркоплазму ослобађа из саркоплазматског ретикулума, током акционог потенцијала у саркоплазму дифундује и велика количина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из Т-туб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мембрани Т-тубула нал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дихидропиридински рецептори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PR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 су волтаж-зависни Са</a:t>
            </a:r>
            <a:r>
              <a:rPr b="0" lang="sr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канали и који се активирају током деполаризације и омогућавају улазак јона Са</a:t>
            </a:r>
            <a:r>
              <a:rPr b="0" lang="sr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у кардиомио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Ванћелијски</a:t>
            </a:r>
            <a:r>
              <a:rPr b="0" lang="sr-Latn-C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улази у ћелију преко овог канала, доводећи до отварања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рианодинског рецептора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типа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ганд-зависни Са</a:t>
            </a:r>
            <a:r>
              <a:rPr b="0" lang="sr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кан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ји се налази на мембрани саркоплазматског ретикул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2050920" y="4170240"/>
            <a:ext cx="5837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труктура кардиомиоц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8960" y="1268280"/>
            <a:ext cx="8506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ганд за ријанодинске рецепторе типа 2 је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улази у кардиомиоците из екстрацелуларног прос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 се ослобађање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 саркоплазматског ретикулума, посредством ријанодинских рецептора, који се активирају дејсвом екстрацепуларног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који улази кроз дихидропиридинске рецепторе, назив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цијумом индуковано ослобађање калцијума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дуковано ослобађ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332000" y="3798720"/>
            <a:ext cx="6654600" cy="3059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1258920" y="3789360"/>
            <a:ext cx="23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ча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435640" y="378936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365280" y="422100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36520" y="5445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2612520" y="5364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681768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408096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61928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579600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Разлике у регулацији екцитације и контракције између срчаног и скелетног мишића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- схематски приказ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8960" y="1268280"/>
            <a:ext cx="8506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10008" t="23627" r="42189" b="8455"/>
          <a:stretch/>
        </p:blipFill>
        <p:spPr>
          <a:xfrm>
            <a:off x="1476360" y="1773360"/>
            <a:ext cx="633564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5"/>
          <p:cNvSpPr/>
          <p:nvPr/>
        </p:nvSpPr>
        <p:spPr>
          <a:xfrm>
            <a:off x="1774800" y="148428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ни миши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5157360" y="148428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чани миши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0" y="485640"/>
            <a:ext cx="9144000" cy="36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Кораци у повезивању ексцитације-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циони потенцијал се пружа од ћелијске мембране до Т туб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ом плато фазе акционог потенцијала проводљивост за калцијумове јоне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(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 повећана 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лазе у ћелију из екстрацелуларне течнос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ок позитивних јон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лазак јона калцијума изазива ослобађање још више калцијума и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(Ca</a:t>
            </a:r>
            <a:r>
              <a:rPr b="1" lang="sr-Latn-CS" sz="1600" spc="-1" strike="noStrike" baseline="30000">
                <a:solidFill>
                  <a:srgbClr val="7030a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sr-CS" sz="1600" spc="-1" strike="noStrike">
                <a:solidFill>
                  <a:srgbClr val="7030a0"/>
                </a:solidFill>
                <a:latin typeface="Arial"/>
              </a:rPr>
              <a:t>индуковано ослобађање</a:t>
            </a: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7030a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личина ослобођен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виси од претходно ускладиштене количи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од бр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итивних јона који су током плато фазе акционог потенцијала ушли у ћели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 резултат овог ослобађањ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рацелуларна концентрациј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везују за тропон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, тропомиозин се помера и на тај нач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клањ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хибицију везивања између актина и миози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тин и миозин се повезу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нки и дебели филаменти клизе један између друг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мишићна ћелија се контраху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редност напона који се развија је пропорционална интрацелуларној концентрациј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89596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Ð ÐµÐ·ÑÐ»ÑÐ°Ñ ÑÐ»Ð¸ÐºÐ° Ð·Ð° release of calcium relaxation cardiomyocite"/>
          <p:cNvPicPr/>
          <p:nvPr/>
        </p:nvPicPr>
        <p:blipFill>
          <a:blip r:embed="rId1"/>
          <a:srcRect l="0" t="30052" r="37002" b="3801"/>
          <a:stretch/>
        </p:blipFill>
        <p:spPr>
          <a:xfrm>
            <a:off x="2195640" y="4076640"/>
            <a:ext cx="46353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6"/>
          <p:cNvSpPr/>
          <p:nvPr/>
        </p:nvSpPr>
        <p:spPr>
          <a:xfrm>
            <a:off x="6732720" y="4797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Уклањање </a:t>
            </a:r>
            <a:r>
              <a:rPr b="1" lang="en-US" sz="2000" spc="-1" strike="noStrike" u="sng">
                <a:solidFill>
                  <a:srgbClr val="7030a0"/>
                </a:solidFill>
                <a:uFillTx/>
                <a:latin typeface="Arial"/>
              </a:rPr>
              <a:t>Ca</a:t>
            </a:r>
            <a:r>
              <a:rPr b="1" lang="sr-CS" sz="2000" spc="-1" strike="noStrike" u="sng" baseline="30000">
                <a:solidFill>
                  <a:srgbClr val="7030a0"/>
                </a:solidFill>
                <a:uFillTx/>
                <a:latin typeface="Arial"/>
              </a:rPr>
              <a:t>2+</a:t>
            </a: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 из цитосола током релаксације кардиоми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24000" y="1889280"/>
            <a:ext cx="8505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омогућавања релаксације срчаног мишића и пуњења срца крвљу врло је значајно адекватно уклањање јона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цит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враћају у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посредством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саркоплазматска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TP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избацују у екстрацелуларни простор посредством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/Ca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мењивач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 чију функцију утиче концентрациј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цитоплазми (коју контролиш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,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аза), као и дејств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се налази на ћелијској мембрани кардиоми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фикасно уклањање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цитоплазме помоћу наведених система омогућава релаксацију миокарда и адекватно пуњење комора крвљ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24000" y="450000"/>
            <a:ext cx="842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1. Убацивањ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у саркоплазматски ретикулу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 помоћу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 коју контролише фосфоламбан (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LB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. Уклањањ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из цитосола кроз плазма мембрану ћелиј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превасходно помоћу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X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змењивача), на чију активност утиче концентрација јо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у цитосолу (што је под контроло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А пумпе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К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TP-азн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пумп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1400" spc="-1" strike="noStrike" baseline="30000">
                <a:solidFill>
                  <a:srgbClr val="0033cc"/>
                </a:solidFill>
                <a:latin typeface="Arial"/>
              </a:rPr>
              <a:t>*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мање пут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азне пумпе која се налази на плазма мембрани мишићне ћелије ср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95280" y="640080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* Блока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-К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TP-азн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пумп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е (нпр. дигиталис) повећава концентрациј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у цитосолу што смањује ефикаснос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X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(мења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) и тиме повећава концентрациј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у ћел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13640" y="260280"/>
            <a:ext cx="818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Уклањање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Ca</a:t>
            </a:r>
            <a:r>
              <a:rPr b="1" lang="sr-CS" sz="2000" spc="-1" strike="noStrike" baseline="30000">
                <a:solidFill>
                  <a:srgbClr val="7030a0"/>
                </a:solidFill>
                <a:latin typeface="Arial"/>
              </a:rPr>
              <a:t>2+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 из цитосола током релаксације кардиоми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Ð ÐµÐ·ÑÐ»ÑÐ°Ñ ÑÐ»Ð¸ÐºÐ° Ð·Ð° release of calcium relaxation cardiomyocite"/>
          <p:cNvPicPr/>
          <p:nvPr/>
        </p:nvPicPr>
        <p:blipFill>
          <a:blip r:embed="rId1"/>
          <a:srcRect l="0" t="30052" r="37002" b="3801"/>
          <a:stretch/>
        </p:blipFill>
        <p:spPr>
          <a:xfrm>
            <a:off x="1042920" y="2205000"/>
            <a:ext cx="6721560" cy="4032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7524720" y="3284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506880"/>
            <a:ext cx="914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Кораци у повезивању ексцитације-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Arial"/>
              </a:rPr>
              <a:t>- схематски приказ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89596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6732720" y="4797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HRR: Excitation-Contraction Coupling Flashcards | Quizlet"/>
          <p:cNvPicPr/>
          <p:nvPr/>
        </p:nvPicPr>
        <p:blipFill>
          <a:blip r:embed="rId1"/>
          <a:srcRect l="0" t="0" r="0" b="2294"/>
          <a:stretch/>
        </p:blipFill>
        <p:spPr>
          <a:xfrm>
            <a:off x="971640" y="1484280"/>
            <a:ext cx="7067520" cy="5040360"/>
          </a:xfrm>
          <a:prstGeom prst="rect">
            <a:avLst/>
          </a:prstGeom>
          <a:ln w="0">
            <a:noFill/>
          </a:ln>
        </p:spPr>
      </p:pic>
      <p:sp>
        <p:nvSpPr>
          <p:cNvPr id="179" name="Straight Connector 14"/>
          <p:cNvSpPr/>
          <p:nvPr/>
        </p:nvSpPr>
        <p:spPr>
          <a:xfrm>
            <a:off x="6227640" y="47242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1116000" y="2781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7030a0"/>
                </a:solidFill>
                <a:latin typeface="Arial"/>
              </a:rPr>
              <a:t>Ритмичка екцитација с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Природа и ширење екцитације кроз с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проводни систе срц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ине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нтернодал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о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предњи, средњи и задњи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исов сн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уркињеов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лак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7199280" cy="3819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179280" y="537372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а локализација делова спроводног система срца и изглед њиховог акционог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05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се налази на споју горње шупље вене и десне преткоморе, док с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V чвор налази у задњем десном делу интератријалног септ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је три снопа преткоморских влакана која повезују SA чвор са 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вором: предњи, средњ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нкебахов сно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nckeb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њ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релов сно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r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V чвор се наставља Хисовим снопом, који се на врху интервентрикуларног септума дели на леву и десну гр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е и снопови се простиру наниже у субендокардијалном слоју са сваке стране септума и ступају у контакт са Пуркињеовим системом, чија се влакна шире до свих делова миокарда ком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611280" y="1557360"/>
            <a:ext cx="81691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501920" y="62064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7030a0"/>
                </a:solidFill>
                <a:latin typeface="Arial"/>
              </a:rPr>
              <a:t>Унутрашњи пресек грађе 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br>
              <a:rPr sz="2800"/>
            </a:br>
            <a:r>
              <a:rPr b="0" lang="sr-Latn-CS" sz="28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8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8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8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е које ритмички окидају акционе потенцијале им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мбранске потенцијале који се након сваког импул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ближавају нивоу прага окид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вод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отенциј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зрок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анак следећег 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условим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водник срчаног рит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cemak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одређеним патолошким стањима када 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супримиран, улогу предводника срчаног ритма преуз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, Хисов сноп или Пуркињеова влакна, због чега се ови делови спроводног система називају “латентним” предводницима срчаног 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водни систем срца састављен је од модификованог срчаног мишића који има мање пруга и нејасне гра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4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4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фазе 1 и 2 које постоје у акционом потенцијалу преткомора, комора и Пуркињеових вла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стабил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мировни мембрански потенцијал ил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ор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поларизацију (пејсмејкерска 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утомат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постојања канала који су пропустљиви з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следичн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орог уласка јон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у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916360" y="4292640"/>
            <a:ext cx="4302000" cy="2233440"/>
          </a:xfrm>
          <a:prstGeom prst="rect">
            <a:avLst/>
          </a:prstGeom>
          <a:ln w="0">
            <a:noFill/>
          </a:ln>
        </p:spPr>
      </p:pic>
      <p:sp>
        <p:nvSpPr>
          <p:cNvPr id="193" name="Oval 5"/>
          <p:cNvSpPr/>
          <p:nvPr/>
        </p:nvSpPr>
        <p:spPr>
          <a:xfrm>
            <a:off x="3348000" y="5732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820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8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4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18960" y="1916280"/>
            <a:ext cx="850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 се активирају одмах нако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олариз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о завршеној реполаризацији називају се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нал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али због њихове неуобичајене (енгл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не) активације називају се и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, а струја која настаје проласком јона кроз ове канале назива се смешна струја или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nny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11033" t="0" r="0" b="0"/>
          <a:stretch/>
        </p:blipFill>
        <p:spPr>
          <a:xfrm>
            <a:off x="2987640" y="4076640"/>
            <a:ext cx="4057560" cy="20890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419640" y="537372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9"/>
          <p:cNvCxnSpPr/>
          <p:nvPr/>
        </p:nvCxnSpPr>
        <p:spPr>
          <a:xfrm flipV="1">
            <a:off x="4642920" y="5805000"/>
            <a:ext cx="1080" cy="550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9" name="TextBox 11"/>
          <p:cNvSpPr/>
          <p:nvPr/>
        </p:nvSpPr>
        <p:spPr>
          <a:xfrm>
            <a:off x="3708360" y="627228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Хиперполаризација и активациј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„h”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ка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97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4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епено повећање мембранског потенцијала током фазе 4 изазива отвар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рих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цијумски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 отварања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а јони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лазе у ћелију у изазивају д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разлику од фазе 0 у преткоморама, коморама и Пуркињеовим влакнима која настаје услед уласка јо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 настаје услед уласка јона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12217" t="0" r="0" b="0"/>
          <a:stretch/>
        </p:blipFill>
        <p:spPr>
          <a:xfrm>
            <a:off x="2987640" y="4365720"/>
            <a:ext cx="4143240" cy="215892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3635280" y="5157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97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4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3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8960" y="1844280"/>
            <a:ext cx="850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3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врху сваког импулса повећава се пропустљивост мембране за калијум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 повећан излазак јона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 ћелије изазива р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е 1 и 2 акционог потенцијала претокомора, комора и Пуркињеових влака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 посто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акционом потенција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rcRect l="12616" t="0" r="0" b="0"/>
          <a:stretch/>
        </p:blipFill>
        <p:spPr>
          <a:xfrm>
            <a:off x="3132000" y="4149720"/>
            <a:ext cx="3990960" cy="2090880"/>
          </a:xfrm>
          <a:prstGeom prst="rect">
            <a:avLst/>
          </a:prstGeom>
          <a:ln w="0">
            <a:noFill/>
          </a:ln>
        </p:spPr>
      </p:pic>
      <p:sp>
        <p:nvSpPr>
          <p:cNvPr id="207" name="Oval 5"/>
          <p:cNvSpPr/>
          <p:nvPr/>
        </p:nvSpPr>
        <p:spPr>
          <a:xfrm>
            <a:off x="4427640" y="4869000"/>
            <a:ext cx="431640" cy="360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2176560"/>
            <a:ext cx="9221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краћ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траје 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с-Пуркињеовом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о је у физиолошким услов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водни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рчаног 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зина стварања импулса у појединим деловима спроводног сис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– од 60 до 100 импулса у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 – од 40 до 60 импулса и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ркињеова влакна – од 15 до 40 импулса у мину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18960" y="1773000"/>
            <a:ext cx="850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ина спровођ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мпулса ј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чвор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што даје довољно времена да се коморе напуне крвљу пре контракције, 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што омогућава да се сви делови комора контрахују истоврем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728720" y="3573360"/>
            <a:ext cx="56865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1979640" y="2924280"/>
            <a:ext cx="504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7030a0"/>
                </a:solidFill>
                <a:latin typeface="Arial"/>
              </a:rPr>
              <a:t>Срчани цик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4" descr="animacija"/>
          <p:cNvPicPr/>
          <p:nvPr/>
        </p:nvPicPr>
        <p:blipFill>
          <a:blip r:embed="rId1"/>
          <a:stretch/>
        </p:blipFill>
        <p:spPr>
          <a:xfrm>
            <a:off x="2127240" y="1920960"/>
            <a:ext cx="5214960" cy="46036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5"/>
          <p:cNvSpPr/>
          <p:nvPr/>
        </p:nvSpPr>
        <p:spPr>
          <a:xfrm>
            <a:off x="914400" y="52560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РЦЕ СВАКОДНЕВНО МОЖЕ ДА ОСТВАРИ ОКО 100.000 ОТКУЦАЈА ОНДА И МИ  МОЖЕМО ДА УСВОЈИМО СВАКУ ФИНЕСУ О СРЧАНОМ ЦИКЛУСУ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2627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И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1197000"/>
            <a:ext cx="86421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А-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(atrio-ventrikularne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лвуле (трикуспидална и митрална валвула) спречавају да се крв за време систоле враћа из комора у прет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50920" y="1773360"/>
            <a:ext cx="85690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Семилунарне валвул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(валвула аорте и валвула пулмоналне артерије) за време дијастоле спречавају да се крв враћа из аорте и плућне артерије у 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чане валвуле се пасивно отварају и затварају као последиц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ијента прит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187280" y="2708280"/>
            <a:ext cx="639468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755640" y="259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85800" y="151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80880" y="29332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187280" y="7660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ИЗИОЛОШКЕ ОДЛИКЕ СРЧА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1413000"/>
            <a:ext cx="87850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чани мишић је попречно-пругаст (као и скелетни) и садржи актинске и миозинске филаменте који у току контракције клизе један дуж других, на исти начин као у скелетном миши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ост срчаног мишића представљају интеркалатни дискови (discus intercalatus) - јављају се на крајевима  ћелија и заправо су ћелијске мембране које раздвајају појединачне ћелије срчаног мишић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655344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0" y="33577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интеркалатним диск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е налаз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ap junctions –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оз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 с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путеви ниског отпора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00 пута мањи отпор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 ћелија и омогућ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 пренос акцио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1187280" y="7664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ПИЛАРНИ МИШИ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79280" y="1989000"/>
            <a:ext cx="4176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пиларни мишић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hordae tendinea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чвршћују за ивице валвула се контрахују када се зидови комора контрахују, и не помажу затварање валв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а функција је да вуку залиске у коморе, па се за време систоле комора валвуле не могу превише избочити у прет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4427640" y="1862280"/>
            <a:ext cx="471636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541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чани циклус – период од почетка је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до почетка друг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е (контракције)                             дијастоле (релакс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sis"/>
          <p:cNvPicPr/>
          <p:nvPr/>
        </p:nvPicPr>
        <p:blipFill>
          <a:blip r:embed="rId1"/>
          <a:stretch/>
        </p:blipFill>
        <p:spPr>
          <a:xfrm>
            <a:off x="0" y="3168720"/>
            <a:ext cx="2811600" cy="3689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j"/>
          <p:cNvPicPr/>
          <p:nvPr/>
        </p:nvPicPr>
        <p:blipFill>
          <a:blip r:embed="rId2"/>
          <a:stretch/>
        </p:blipFill>
        <p:spPr>
          <a:xfrm>
            <a:off x="6329520" y="3173400"/>
            <a:ext cx="281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Vladimir Zivkovic\Desktop\GANONG\SLIKE\XXX POGLAVLjE\PNG\Gan024_Slika_30-01.png"/>
          <p:cNvPicPr/>
          <p:nvPr/>
        </p:nvPicPr>
        <p:blipFill>
          <a:blip r:embed="rId1"/>
          <a:srcRect l="0" t="0" r="0" b="53430"/>
          <a:stretch/>
        </p:blipFill>
        <p:spPr>
          <a:xfrm>
            <a:off x="1116000" y="2997360"/>
            <a:ext cx="77454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Vladimir Zivkovic\Desktop\GANONG\SLIKE\XXX POGLAVLjE\PNG\Gan024_Slika_30-01.png"/>
          <p:cNvPicPr/>
          <p:nvPr/>
        </p:nvPicPr>
        <p:blipFill>
          <a:blip r:embed="rId1"/>
          <a:srcRect l="0" t="0" r="53848" b="53430"/>
          <a:stretch/>
        </p:blipFill>
        <p:spPr>
          <a:xfrm>
            <a:off x="4572000" y="213372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250920" y="2421000"/>
            <a:ext cx="468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 почетку систоле комора, АV залисци се затварају, а семилунарни залисци се још нису отвор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л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а комора је пуна крви која је пристигла из леве преткоморе и њена запремина износи о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40 ml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д-дијастолн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ски мишић се мало скрати, интравентрикуларни притисак нагло расте (миокард притиска крв у комор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- Овај период </a:t>
            </a:r>
            <a:r>
              <a:rPr b="0" lang="ru-RU" sz="1800" spc="-1" strike="noStrike">
                <a:solidFill>
                  <a:srgbClr val="000000"/>
                </a:solidFill>
                <a:latin typeface="MinionPro-Regular"/>
              </a:rPr>
              <a:t>траје око 0,05 секунди, све док притисак у левој комори не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ао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79280" y="2349360"/>
            <a:ext cx="45720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да притисак у левој комори надвлада притисак у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орти (80 mmHg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лази до отварања аортних залиста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Крв почиње да се избацује у аорту, притисак у комори услед систоле и даље расте (фазе брзе ејекције) и достиже вредност систолног притиска у аор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Како запремина крви у коморама током ејекције пада, долази и до пада притиска у њима (фаза споре ејекције) и када притисак у аорти надмаши притисак у комори затварају се семилунарне валву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Количина крви која се при томе избаци из коморе назива се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ударни волумен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ко 70-90m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Vladimir Zivkovic\Desktop\GANONG\SLIKE\XXX POGLAVLjE\PNG\Gan024_Slika_30-01.png"/>
          <p:cNvPicPr/>
          <p:nvPr/>
        </p:nvPicPr>
        <p:blipFill>
          <a:blip r:embed="rId1"/>
          <a:srcRect l="46558" t="0" r="0" b="53430"/>
          <a:stretch/>
        </p:blipFill>
        <p:spPr>
          <a:xfrm>
            <a:off x="4859280" y="1268280"/>
            <a:ext cx="4896000" cy="413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4572000" y="5373720"/>
            <a:ext cx="4572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Запремина крви која остане у левој комори се назива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енд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систолни волумен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око 50m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C:\Users\Vladimir Zivkovic\Desktop\GANONG\SLIKE\XXX POGLAVLjE\PNG\Gan024_Slika_30-01.png"/>
          <p:cNvPicPr/>
          <p:nvPr/>
        </p:nvPicPr>
        <p:blipFill>
          <a:blip r:embed="rId1"/>
          <a:srcRect l="0" t="46576" r="0" b="0"/>
          <a:stretch/>
        </p:blipFill>
        <p:spPr>
          <a:xfrm>
            <a:off x="1332000" y="2924280"/>
            <a:ext cx="662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C:\Users\Vladimir Zivkovic\Desktop\GANONG\SLIKE\XXX POGLAVLjE\PNG\Gan024_Slika_30-01.png"/>
          <p:cNvPicPr/>
          <p:nvPr/>
        </p:nvPicPr>
        <p:blipFill>
          <a:blip r:embed="rId1"/>
          <a:srcRect l="0" t="46576" r="64134" b="0"/>
          <a:stretch/>
        </p:blipFill>
        <p:spPr>
          <a:xfrm>
            <a:off x="4998960" y="2276640"/>
            <a:ext cx="3894120" cy="43210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8229600" y="3068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24000" y="1916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да се залисци затворe, притисак наставља брзо да 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лунарни залисци су затворени, а   АV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 фаза се завршава када комор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исак падне испод притиска у преткоморама и АV залисци се отворе, омогућавајући пуњењ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Users\Vladimir Zivkovic\Desktop\GANONG\SLIKE\XXX POGLAVLjE\PNG\Gan024_Slika_30-01.png"/>
          <p:cNvPicPr/>
          <p:nvPr/>
        </p:nvPicPr>
        <p:blipFill>
          <a:blip r:embed="rId1"/>
          <a:srcRect l="32539" t="46576" r="0" b="0"/>
          <a:stretch/>
        </p:blipFill>
        <p:spPr>
          <a:xfrm>
            <a:off x="4356000" y="2708280"/>
            <a:ext cx="4788000" cy="3960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17928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V залисци су отворен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ртни и пулмонални залисци затво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в из преткомора утиче у коморе најпре брзо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на фаза брзог пуњења ком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потом споро-пасивно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ијаст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док се преосталих 25-30% крви избаци систолом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нтра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rcRect l="0" t="2887" r="0" b="2887"/>
          <a:stretch/>
        </p:blipFill>
        <p:spPr>
          <a:xfrm>
            <a:off x="0" y="665280"/>
            <a:ext cx="8906040" cy="61927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"/>
          <p:cNvSpPr/>
          <p:nvPr/>
        </p:nvSpPr>
        <p:spPr>
          <a:xfrm>
            <a:off x="2980080" y="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4d33ff"/>
                </a:solidFill>
                <a:uFillTx/>
                <a:latin typeface="MyriadPro-Black"/>
              </a:rPr>
              <a:t>Вигерсов дијаг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33ff"/>
                </a:solidFill>
                <a:latin typeface="MyriadPro-Black"/>
              </a:rPr>
              <a:t>Промене притиска у преткоморама током срчаног цикл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2133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 талас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 притиска у преткоморама услед контракције преткоморa (касна фаза брзог пуњења комора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стаје након р таласа ЕКГ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талас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раст притиска у преткоморама услед проминирања атриовентрикуларних залистака у преткоморе (на крају изоволуметријске контракције комора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стаје након R таласа ЕКГ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 талас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 притиска у преткоморама услед пуњења преткомора крвљу (изоволумeтријскa релаксацијa комо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стаје након T таласа ЕКГ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547640" y="692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Грађа порозних веза (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Gap junctions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9280" y="1581480"/>
            <a:ext cx="896472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На нивоу порозних веза међућелијски простор се сужав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а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јединице које се називају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inionPro-Bold"/>
              </a:rPr>
              <a:t>конексо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мембрани суседних ћел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ређају једна уз друг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формирајућ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ванаестостраничну структуру порозн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везе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(слика на следећем слај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Свак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конекс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је састављен од шест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протеинских субједница названих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inionPro-Bold"/>
              </a:rPr>
              <a:t>конекс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Они окружуј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канал који када се налази у линији са истим таквим каналом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суседне ћелије дозвољава пролаз супстанцама из једне 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ругу ћелиј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без проласка супстанци у ванћелијски простор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ијаметар канал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(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MinionPro-Regular"/>
              </a:rPr>
              <a:t>ок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nionPro-Regular"/>
              </a:rPr>
              <a:t>2 nm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)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озвољава пролаз јонима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шећерима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аминокисели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и другим раствореним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честицама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чија је молекулска маса до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Услед тога, порозне вез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озвољавају брз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пропагацију електричних потенцијал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са једне на другу ћелију, као и размену разних хемијских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гласник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Притисци и волумени у комо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1700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виши притисак у левој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и износи око 120 mmHg, а у десној око 25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и волумен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сваком контракцијом комора у мировању избаци (70–90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си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остаје у коморама на крају систоле (50 – 6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дија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налази у коморама на крају дијастоле (120 – 14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ат енд-дијастолног волумена (130-140 ml) који се избаци при свакој систоли (око 6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је значај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љ функциј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утни волумен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мина крви коју срце испумпа током једног минута (у миру износи 4-6 L/мин), једнака је производ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дарног волум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реквенције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33ff"/>
                </a:solidFill>
                <a:latin typeface="MyriadPro-Black"/>
              </a:rPr>
              <a:t>Утицај различитих стања на</a:t>
            </a:r>
            <a:br>
              <a:rPr sz="2800"/>
            </a:br>
            <a:r>
              <a:rPr b="0" lang="ru-RU" sz="2800" spc="-1" strike="noStrike">
                <a:solidFill>
                  <a:srgbClr val="4d33ff"/>
                </a:solidFill>
                <a:latin typeface="MyriadPro-Black"/>
              </a:rPr>
              <a:t>минутни волумен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826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04700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око 0,8 секунди (фреквенца 70-80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комора – 1/3 времена око 0,3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комора – 2/3 времена око 0,5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преткомора – око 0,1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преткомора – око 0,7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47668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 повећањем фреквенције срца, срчани циклус се скраћу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(види табелу на претходном слај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аћење трајања систоле је последица скраћења фазе ејекције у сист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јање дијастоле се са повећањем фреквенције више смањује (посебно се скраћује трајање фазе дијастаз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чани мишић мирује током дијастоле, и коронарни проток крви кроз субендокардне делове леве коморе остварује се само у току дијаст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 пуњење је адекватно све док постоји довољан венски прилив, а минутни волумен срца расте на рачун повећања фрекве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, пуњење може бити компромитовано до тог степена да се смањи минутни волумен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ћи да има продужен акциони потенцијал, срчани мишић није у стању да реагује контракцијом на нови стимулус све до пред крај иницијалне контракције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може доћи до тетанизације срчаног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рива притисак - волумен у комо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360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 крива је конструисана комбиновањем криве систолног и криве дијастолног прит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јастолног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притиска представља однос притиска и волумена у коморама за време дијаст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ва систолног притиска представља однос између притиска и волумена у коморама за време сист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ан срчани циклус се може приказати и крив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Vladimir Zivkovic\Desktop\GANONG\SLIKE\XXX POGLAVLjE\PNG\Gan024_Slika_30-02.png"/>
          <p:cNvPicPr/>
          <p:nvPr/>
        </p:nvPicPr>
        <p:blipFill>
          <a:blip r:embed="rId1"/>
          <a:stretch/>
        </p:blipFill>
        <p:spPr>
          <a:xfrm>
            <a:off x="324000" y="3457440"/>
            <a:ext cx="3671640" cy="32864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4356000" y="414972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оком дијастоле, комора се пуни и притисак расте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тиса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г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те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ком изоволуметријске контра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ком брзе ејекције притисак најпре расте (услед систоле), а потом опада током споре ејекције (запремина крви током ејекције па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 тач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ортни залисци се затварају и притиса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г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пада током изоволуметријске релаксације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356000" y="4005360"/>
            <a:ext cx="4537080" cy="2376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омене у облику криве притисак-волу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кт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већан pre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овећан after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овећана контракт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Ð¡ÑÐ¾Ð´Ð½Ð° ÑÐ»Ð¸ÐºÐ°"/>
          <p:cNvPicPr/>
          <p:nvPr/>
        </p:nvPicPr>
        <p:blipFill>
          <a:blip r:embed="rId1"/>
          <a:srcRect l="0" t="15695" r="0" b="10358"/>
          <a:stretch/>
        </p:blipFill>
        <p:spPr>
          <a:xfrm>
            <a:off x="179280" y="3860640"/>
            <a:ext cx="8964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већан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p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Preloa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тепен истегнутости мишића на почетку контракције, оптерећење волум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Preloa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е односи на повећан ен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јастолни волумен који настаје услед повећаног венског прилива у физиолошким усл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повећања ударног волумена што је у основ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Frank-Starling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вог зако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(види касн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ударни волумен доводи до проширења криве притиса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олум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Ð¡ÑÐ¾Ð´Ð½Ð° ÑÐ»Ð¸ÐºÐ°"/>
          <p:cNvPicPr/>
          <p:nvPr/>
        </p:nvPicPr>
        <p:blipFill>
          <a:blip r:embed="rId1"/>
          <a:srcRect l="0" t="15695" r="63858" b="10358"/>
          <a:stretch/>
        </p:blipFill>
        <p:spPr>
          <a:xfrm>
            <a:off x="3419640" y="3645000"/>
            <a:ext cx="374472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већан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aft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Afterload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птерећење које мишић савладава својом контракцијом, оптерећење прит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Afterload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е односи на повећање притиска у ао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мора мора да избаци крв насупрот вишем притиску у аорти што доводи до смањења ударног волу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ударни волумен доводи до сужења криве притисак-волу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ударни волумен повећава запремину крви која остаје у комори (енд-систолни волуме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Ð¡ÑÐ¾Ð´Ð½Ð° ÑÐ»Ð¸ÐºÐ°"/>
          <p:cNvPicPr/>
          <p:nvPr/>
        </p:nvPicPr>
        <p:blipFill>
          <a:blip r:embed="rId1"/>
          <a:srcRect l="36950" t="15695" r="31727" b="10358"/>
          <a:stretch/>
        </p:blipFill>
        <p:spPr>
          <a:xfrm>
            <a:off x="4211640" y="3805200"/>
            <a:ext cx="3024360" cy="279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Ð¡ÑÐ¾Ð´Ð½Ð° ÑÐ»Ð¸ÐºÐ°"/>
          <p:cNvPicPr/>
          <p:nvPr/>
        </p:nvPicPr>
        <p:blipFill>
          <a:blip r:embed="rId2"/>
          <a:srcRect l="0" t="15695" r="94383" b="10358"/>
          <a:stretch/>
        </p:blipFill>
        <p:spPr>
          <a:xfrm>
            <a:off x="3665520" y="3789360"/>
            <a:ext cx="5461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824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већана контракт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коморама се развија већи притисак него што је уобичајено за време си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 доводи до повећања ударног волу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н ударни волумен доводи до смањења запремине крви у комори на крају си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Ð¡ÑÐ¾Ð´Ð½Ð° ÑÐ»Ð¸ÐºÐ°"/>
          <p:cNvPicPr/>
          <p:nvPr/>
        </p:nvPicPr>
        <p:blipFill>
          <a:blip r:embed="rId1"/>
          <a:srcRect l="67480" t="15695" r="0" b="10358"/>
          <a:stretch/>
        </p:blipFill>
        <p:spPr>
          <a:xfrm>
            <a:off x="4572000" y="371628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Ð¡ÑÐ¾Ð´Ð½Ð° ÑÐ»Ð¸ÐºÐ°"/>
          <p:cNvPicPr/>
          <p:nvPr/>
        </p:nvPicPr>
        <p:blipFill>
          <a:blip r:embed="rId2"/>
          <a:srcRect l="0" t="15695" r="94383" b="10358"/>
          <a:stretch/>
        </p:blipFill>
        <p:spPr>
          <a:xfrm>
            <a:off x="4067280" y="3716280"/>
            <a:ext cx="5461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824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Ефекат систолне и дијастолне дисфункције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 криву притисак-волумен у левој ко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13744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оба граф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не линије представљају нормалну криву притисак-волумен, а испрекидане линије показују како се крива помера у случају обољења ср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во: систолна дисфункција помера изоволемијски део криве притисак-волумен удесно, смањујући ударни волумен са б-в на б’-в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сно: дијастолна дисфункција повећава енд-дијастолни волумен и помера дијастолни однос притисак-волумен нагоре и улево. Ово изазива смањење ударног волумена са б-в на б’-в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Vladimir Zivkovic\Desktop\GANONG\SLIKE\XXX POGLAVLjE\PNG\Gan024_Slika_30-07.png"/>
          <p:cNvPicPr/>
          <p:nvPr/>
        </p:nvPicPr>
        <p:blipFill>
          <a:blip r:embed="rId1"/>
          <a:stretch/>
        </p:blipFill>
        <p:spPr>
          <a:xfrm>
            <a:off x="971640" y="1341360"/>
            <a:ext cx="7062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Suzana\Ganong knjiga\GANONG knjiga\SLIKE\II POGLAVLjE\PNG\Gan024_Deo_02-09.png"/>
          <p:cNvPicPr/>
          <p:nvPr/>
        </p:nvPicPr>
        <p:blipFill>
          <a:blip r:embed="rId1"/>
          <a:stretch/>
        </p:blipFill>
        <p:spPr>
          <a:xfrm>
            <a:off x="2916360" y="404640"/>
            <a:ext cx="6730920" cy="6094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79280" y="1268280"/>
            <a:ext cx="273708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лак порозних веза или колекциј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х порозних веза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формира више пора измеђ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ћелија кој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дозвољавају пролаз малих молекула. Уметак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десно на слици ј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електромикрографски приказ јетре пацов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опографски приказ појединачног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онексона и одговарајући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шест конексинских протеина који пролазе кроз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ембран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547640" y="54936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Схематски приказ грађе порозних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Фактори који утичу на минутни волумен срц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Diagram 3" descr=""/>
          <p:cNvPicPr/>
          <p:nvPr/>
        </p:nvPicPr>
        <p:blipFill>
          <a:blip r:embed="rId1"/>
          <a:stretch/>
        </p:blipFill>
        <p:spPr>
          <a:xfrm>
            <a:off x="1109520" y="1390680"/>
            <a:ext cx="6516720" cy="5010120"/>
          </a:xfrm>
          <a:prstGeom prst="rect">
            <a:avLst/>
          </a:prstGeom>
          <a:ln w="0">
            <a:noFill/>
          </a:ln>
        </p:spPr>
      </p:pic>
      <p:sp>
        <p:nvSpPr>
          <p:cNvPr id="288" name="Down Arrow 7"/>
          <p:cNvSpPr/>
          <p:nvPr/>
        </p:nvSpPr>
        <p:spPr>
          <a:xfrm>
            <a:off x="4211640" y="2565360"/>
            <a:ext cx="289080" cy="3589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ight Arrow 8"/>
          <p:cNvSpPr/>
          <p:nvPr/>
        </p:nvSpPr>
        <p:spPr>
          <a:xfrm>
            <a:off x="2916360" y="378936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Arrow 9"/>
          <p:cNvSpPr/>
          <p:nvPr/>
        </p:nvSpPr>
        <p:spPr>
          <a:xfrm rot="10800000">
            <a:off x="5435280" y="3715920"/>
            <a:ext cx="431640" cy="289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ight Arrow 10"/>
          <p:cNvSpPr/>
          <p:nvPr/>
        </p:nvSpPr>
        <p:spPr>
          <a:xfrm rot="16200000">
            <a:off x="4151160" y="4876920"/>
            <a:ext cx="432000" cy="28872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Интеракције између компоненти које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регулишу минутни волумен срца и артеријски притисак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Vladimir Zivkovic\Desktop\GANONG\SLIKE\XXX POGLAVLjE\PNG\Gan024_Slika_30-05.png"/>
          <p:cNvPicPr/>
          <p:nvPr/>
        </p:nvPicPr>
        <p:blipFill>
          <a:blip r:embed="rId1"/>
          <a:stretch/>
        </p:blipFill>
        <p:spPr>
          <a:xfrm>
            <a:off x="1979640" y="1557360"/>
            <a:ext cx="4656240" cy="4464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826920" y="6237360"/>
            <a:ext cx="74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не линије показују повећање, а испрекидане смање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1707120" y="692280"/>
            <a:ext cx="617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РЕГУЛАЦИЈА СРЧАНОГ РАД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95280" y="1700280"/>
            <a:ext cx="82803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rank-Starling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границама срце ће испумпати сву крв која у њега дође, не дозвољавајући да се превелика количина крви накупља у ве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 повећаног дотока крв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чани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шић се више истегне а истегнути мишић (у физиолошким границама) ће се контраховати јачом силом, зато што су онда актински и миозински филаменти у оптималном степену преклапања за развој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тезање зида десне преткоморе повећава срчану фреквенцију чак за 10-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нервни систе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атички н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 парасимпатички н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олишу фреквенцију и снаге срчане контракције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1116000" y="6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Фактори који утичу на фреквенцију ср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3290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468360" y="765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сновни путеви медуларне контроле фреквенције срца вагусним нер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302080" cy="41958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250920" y="436572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еурони из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eus trac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solitarii (NTS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азе до срчаних преганглијских парасимпатичких неурона, и побуђују их, најпре 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nucleus ambiguus-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ки се такође налазе у дорзалним моторним једрима ваг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ђутим, ово једро углавном садржи моторне неуроне вагуса који долазе до гастроинтестиналног 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859280" y="59500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Легенда: AP,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area postrema; Py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пирамидални пут;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II, </a:t>
            </a: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једро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hypoglossus-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468360" y="2060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је два типа преткоморских рецептора на истезањ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кидају импулсе првенствено током систоле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рвенствено окидају импулсе у касној дијастоли (преткоморе су максимално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ене крвљ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идање импулса барорецепт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а Б се повећава када расте венски прилив у срце, а смањује под утицајем позитивног притиска током дисања, што указује на то да се ови барорецептори активирају пр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га истезањем зидова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цептори на ендокардијалним површинама комора активирају се током истеза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ед тога настају вагална брадикардија и хипотензија (слично барорецепторском рефлекс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цептори на истезање леве коморе могу да имају значајну улогу у регулацији вагусног тонуса, који одржава нижу фреквенцију срца током мир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900000" y="765000"/>
            <a:ext cx="70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ЕТКОМОРСКИ РЕЦЕПТОРИ НА ИСТЕЗАЊЕ И КАРДИОПУЛМОНАЛНИ РЕЦЕПТО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826920" y="476280"/>
            <a:ext cx="7248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тицај различитог степена стимулације симпатикуса и парасимпатикуса на криву минутног волумена ср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608360" y="1628640"/>
            <a:ext cx="453564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 слици се налазе криве које приказују однос између притиска у десној преткомори и количине крви коју лева комора у току једног минута упумпа у а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 се уочити да при било којој вредности притиска у десној преткомори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повећана стимулација симпатикуса повећава минутни волумен срца, а повећана стимулација парасимпатикуса га смањ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мене минутног волумена срца које настају збох стимулације нерава дешавају се због промена у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фреквенциј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у јачини контракције срц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јер се оба фактора мењају под утицајем нервне стимул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Ð¡ÑÐ¾Ð´Ð½Ð° ÑÐ»Ð¸ÐºÐ°"/>
          <p:cNvPicPr/>
          <p:nvPr/>
        </p:nvPicPr>
        <p:blipFill>
          <a:blip r:embed="rId1"/>
          <a:srcRect l="17714" t="17452" r="22439" b="0"/>
          <a:stretch/>
        </p:blipFill>
        <p:spPr>
          <a:xfrm>
            <a:off x="0" y="1413000"/>
            <a:ext cx="4608360" cy="45352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4"/>
          <p:cNvSpPr/>
          <p:nvPr/>
        </p:nvSpPr>
        <p:spPr>
          <a:xfrm>
            <a:off x="900000" y="5589720"/>
            <a:ext cx="3384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тисак у десној преткомори (mmH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 rot="16200000">
            <a:off x="-855720" y="3167280"/>
            <a:ext cx="252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нутни волумен (L/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755640" y="7995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Аутономни ефекти на срцу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Diagram 4" descr=""/>
          <p:cNvPicPr/>
          <p:nvPr/>
        </p:nvPicPr>
        <p:blipFill>
          <a:blip r:embed="rId1"/>
          <a:stretch/>
        </p:blipFill>
        <p:spPr>
          <a:xfrm>
            <a:off x="1457280" y="2048040"/>
            <a:ext cx="6132600" cy="40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152280" y="667440"/>
            <a:ext cx="8991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Хрон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воде до промена срчаног рит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е 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настаје 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а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а брз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њем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оних потенцијал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2280" y="359640"/>
            <a:ext cx="8991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Дром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промене у брзини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о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дромотропни ефека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мањење брзине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рава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ђење 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 и продуж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дром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 повећањ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рзава се провођ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ора и скраћ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84360" y="5732640"/>
            <a:ext cx="36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Ритмички акциони потенцијал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mV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ркињевог влакна и мишићног влакна комора, регистровани помоћу електрод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0" y="292428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ни мембрански потенцијал у срчаном мишићу износи -85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5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V, а у специјализованим Пуркињевим влакнима око -90 до -100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692360" y="907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Мембрански потенцијал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у срчаном миши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Ð¡ÑÐ¾Ð´Ð½Ð° ÑÐ»Ð¸ÐºÐ°"/>
          <p:cNvPicPr/>
          <p:nvPr/>
        </p:nvPicPr>
        <p:blipFill>
          <a:blip r:embed="rId1"/>
          <a:srcRect l="16538" t="21651" r="22828" b="2749"/>
          <a:stretch/>
        </p:blipFill>
        <p:spPr>
          <a:xfrm>
            <a:off x="324000" y="1700280"/>
            <a:ext cx="403200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11280" y="1265040"/>
            <a:ext cx="777240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арасимпатички ефекти на фреквенцију срца и брзину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коморе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им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асимпатичку вагусну инерв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 је коморе не поседу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отрансмитер ј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тилхол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ACh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се везује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холиноцепторе пејсмејкерск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250920" y="476280"/>
            <a:ext cx="84978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Негативни хрон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ањује се фреквенција срц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жењем трајања фаз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њи број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акционих потенцијала се јавља у јединици времена јер се праг потенцијала достиже спорије 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7030a0"/>
                </a:solidFill>
                <a:latin typeface="Arial"/>
              </a:rPr>
              <a:t>Механизам негативног хронотропног е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смањен улазак позитивних јо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ом фазе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порије се достиже праг окидањ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повећане пропустљивости мембране 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 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бржи и/или већи излазак ј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 +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ативност унутар влак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ерполаризаци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ед хиперполаризације спорије се достиже праг окид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синусном чвору стање хиперполаризације смањује потенцијал “мировања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чв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а негативнију вредност на -65 до -7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уместо на -55 до -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т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почетно повећање мембранског потенцијала синусног чвора узроковано цурењем јона натријума кроз мембрану траје дуже, док потенцијал не достигне праг за раздражење (успорава се ритмичност нодалних влак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24000" y="765000"/>
            <a:ext cx="8569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Нега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ује се брзина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дужав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преносе спор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ен улазак позитив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н излаза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916360" y="4292640"/>
            <a:ext cx="430200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250920" y="850680"/>
            <a:ext cx="889308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Симпатички ефекти на фреквенцију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и брзину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- неуротрансмитер је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норадреналин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 који се везује з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адрено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цептор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79280" y="2492280"/>
            <a:ext cx="87854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7030a0"/>
                </a:solidFill>
                <a:latin typeface="Arial"/>
              </a:rPr>
              <a:t>Позитивни хронотропни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брзава се фреквен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аћење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ф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(брже се достиже праг окидања - нагиб препотенцијала је већ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 акционих потенцијала се јавља у јединици вре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 се праговни потенцијал достиже брже а самим тим и 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ханиз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- повећан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ак позитивних натријумових ј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су одговорни за фаз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билног мировног потенциј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843280" y="4624560"/>
            <a:ext cx="430380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468360" y="1052640"/>
            <a:ext cx="7920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брзину провођења 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 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е брже од преткомора до комора тако да пуњење комора може бити смањ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ханиз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овећан улазак позитивних јона 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(повећана проводљивост з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смањене проводљивости з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916360" y="4292640"/>
            <a:ext cx="430200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875520"/>
            <a:ext cx="8497800" cy="49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030a0"/>
                </a:solidFill>
                <a:latin typeface="Arial"/>
              </a:rPr>
              <a:t>K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онтракт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 унутрашње својство срчаног мишића да развије силу за дату дужину 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CS" sz="1800" spc="-1" strike="noStrike">
                <a:solidFill>
                  <a:srgbClr val="7030a0"/>
                </a:solidFill>
                <a:latin typeface="Arial"/>
              </a:rPr>
              <a:t>инотроп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 од интрацелуларне 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интрацелуларни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у срчаном мишићу потиче једним делом из екстрацелуларног простора а другим делом из саркоплазматског ретикулу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проце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 ејекционе фрак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ар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стол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 нормално износ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55 (5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7030a0"/>
                </a:solidFill>
                <a:latin typeface="Arial"/>
              </a:rPr>
              <a:t>Инотропни ефе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итивни инотропни фа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ју повећ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и инотропни фа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ју смањ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324000" y="1003320"/>
            <a:ext cx="86407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ан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a. 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Повећање фреквенције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се више акционих потенцијала јави у јединици вре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и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е срца током фазе платоа акционог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ослобађа и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већи је и напон који се развија током 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 повећана срчана фреквенција повећава постепено силу контракције у оној мери колико се интрацелуларна концентр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умулативно током неколико откуцаја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кстрасистол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ј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ција која се јавља после екстрасистоле има већу силу 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улази у ћелије током екстрасист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24000" y="1552320"/>
            <a:ext cx="864072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ан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. Симпатичка стимулација (катехоламини) преко β1 рецеп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 снагу контракције преко два 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ћелиј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ом плато фазе сваког акционог потенцијал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ем активнос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мп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сфорилациј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осфоламба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 резултира у већој акумулациј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R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на тај начин је виш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ступно за ослобађање у наредном пери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250920" y="1916280"/>
            <a:ext cx="8893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ц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. 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Кардиотонични гликозиди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дигиталис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вају снагу контракције на тај начин што инхибирај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ATP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зу на мемб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чаних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 резултат ове инхиби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целулар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ација ј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 повећа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ујући градијен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 ћелијску мемб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3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ам којим 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бацу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 од величине градијента 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у да је смањ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е повећањ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целуларног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79280" y="836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ан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Ð ÐµÐ·ÑÐ»ÑÐ°Ñ ÑÐ»Ð¸ÐºÐ° Ð·Ð° digitalis mechanism"/>
          <p:cNvPicPr/>
          <p:nvPr/>
        </p:nvPicPr>
        <p:blipFill>
          <a:blip r:embed="rId1"/>
          <a:stretch/>
        </p:blipFill>
        <p:spPr>
          <a:xfrm>
            <a:off x="3203640" y="4149720"/>
            <a:ext cx="40212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250920" y="1916280"/>
            <a:ext cx="889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Парасимпатичка стимулација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 (A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да је фреквенција срчаног рада ниска, улазак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ве време мањи, остављајући довољно времена за излазак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ђу акционих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сечна концентрација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у цитосолу се смањује и контрактилност је н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арасимпатичка влакна испољавају негативан инотропан ефекат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фреквенцијски инотропизам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само преко овог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79280" y="836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смању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негативни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960" y="1484280"/>
            <a:ext cx="850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е разлике у изгледу акционих потенцијала у појединим деловим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упадљивија карактеристика акционог потенцијала кардиомиоцита преткомора, комора и Пуркињеових влакана је постојање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то фаз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лед чега контракција срчаног мишића трај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15 пут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же у односу на скелетни миши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038480" cy="296712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 flipH="1">
            <a:off x="4715640" y="3212640"/>
            <a:ext cx="115164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Rectangle 9"/>
          <p:cNvSpPr/>
          <p:nvPr/>
        </p:nvSpPr>
        <p:spPr>
          <a:xfrm>
            <a:off x="5943600" y="30686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плато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rcRect l="18538" t="47859" r="57949" b="25566"/>
          <a:stretch/>
        </p:blipFill>
        <p:spPr>
          <a:xfrm>
            <a:off x="755640" y="4149720"/>
            <a:ext cx="3492360" cy="2232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2"/>
          <a:srcRect l="18538" t="47859" r="33045" b="25566"/>
          <a:stretch/>
        </p:blipFill>
        <p:spPr>
          <a:xfrm>
            <a:off x="755640" y="1989000"/>
            <a:ext cx="770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rcRect l="66958" t="47859" r="4538" b="25566"/>
          <a:stretch/>
        </p:blipFill>
        <p:spPr>
          <a:xfrm>
            <a:off x="4211640" y="4149720"/>
            <a:ext cx="4259160" cy="22320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029"/>
          <p:cNvSpPr/>
          <p:nvPr/>
        </p:nvSpPr>
        <p:spPr>
          <a:xfrm>
            <a:off x="1209960" y="404640"/>
            <a:ext cx="617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ФЕКТИ НА СР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Табелар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иказ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76720" y="620640"/>
            <a:ext cx="58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Акциони потенциј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комора, преткомора и Пуркињеов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4000" y="147852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 мировни мембрански потенцијал од ок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90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ивол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 вредност се приближава вредности равнотежног потенцијала 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циони потенцијали дуго тра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рочито 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ркињевим влакн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0" y="3213000"/>
            <a:ext cx="550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циони потенцијал кардиомиоцита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реткомор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мор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уркињеових влакан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стоји се из следећих фа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0 – деполар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1 – почетна реполар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2 – плато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3 – реполар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4 – мировни мембрански потенциј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4040280" cy="296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Windows User</cp:lastModifiedBy>
  <dcterms:modified xsi:type="dcterms:W3CDTF">2021-10-06T08:39:35Z</dcterms:modified>
  <cp:revision>107</cp:revision>
  <dc:subject/>
  <dc:title>Физиологија срца</dc:title>
</cp:coreProperties>
</file>