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gif" ContentType="image/gif"/>
  <Override PartName="/ppt/media/image27.jpeg" ContentType="image/jpeg"/>
  <Override PartName="/ppt/media/image16.png" ContentType="image/png"/>
  <Override PartName="/ppt/media/image24.png" ContentType="image/png"/>
  <Override PartName="/ppt/media/image6.jpeg" ContentType="image/jpeg"/>
  <Override PartName="/ppt/media/image34.png" ContentType="image/png"/>
  <Override PartName="/ppt/media/image30.jpeg" ContentType="image/jpeg"/>
  <Override PartName="/ppt/media/image32.png" ContentType="image/png"/>
  <Override PartName="/ppt/media/image13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png" ContentType="image/png"/>
  <Override PartName="/ppt/media/image29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3.jpeg" ContentType="image/jpeg"/>
  <Override PartName="/ppt/media/image37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57E-D072-49A9-A9B4-B7880E36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AF5-FF7F-4FC4-B606-29575966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4EE-0023-41F3-812D-2AC44B03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8A0-C9C9-469A-93D2-AE8F728C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A78-D3F6-445A-90D6-06F3920A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FCC-05E6-4136-8F72-202E3A1C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941-C135-44F7-B103-834C1B74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CBD-90D8-47C0-BA15-A714C3A3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DBE-2DA2-41F7-AD9E-ECA86ABC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AF5-93BB-4738-A25F-6399D1C7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009-ADA8-4CDD-BC6F-3F8064BA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AC1-9C11-4036-AF5C-9D3C5EE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DC34-227B-4245-A87D-42A2A1B4C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дицинск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нау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Крагујевцу</a:t>
            </a:r>
            <a:br>
              <a:rPr sz="32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зиолог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98900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РЕГИСТРОВАЊЕ И АНАЛИЗА ЕКГ – 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E:\Nena\Doktorske\MFgrb.gif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heartheavy.com/wp-content/uploads/EM00027_ma.jpg"/>
          <p:cNvPicPr/>
          <p:nvPr/>
        </p:nvPicPr>
        <p:blipFill>
          <a:blip r:embed="rId2"/>
          <a:stretch/>
        </p:blipFill>
        <p:spPr>
          <a:xfrm>
            <a:off x="2484360" y="3429000"/>
            <a:ext cx="38894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5364000" y="595008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едра за Физиолог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ЖБ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380880" y="290520"/>
            <a:ext cx="815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мировни мембрански потенција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д у коме је улазак и излазак позитивних јона 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мбрански потенцијал се приближ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внотежном потенцијалу 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1258920" y="765000"/>
            <a:ext cx="6697800" cy="5832720"/>
            <a:chOff x="1258920" y="765000"/>
            <a:chExt cx="6697800" cy="5832720"/>
          </a:xfrm>
        </p:grpSpPr>
        <p:pic>
          <p:nvPicPr>
            <p:cNvPr id="86" name="Picture 7" descr="https://www.urmc.rochester.edu/Encyclopedia/GetImage.aspx?ImageID=125477"/>
            <p:cNvPicPr/>
            <p:nvPr/>
          </p:nvPicPr>
          <p:blipFill>
            <a:blip r:embed="rId1"/>
            <a:stretch/>
          </p:blipFill>
          <p:spPr>
            <a:xfrm>
              <a:off x="1258920" y="981000"/>
              <a:ext cx="669780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4"/>
            <p:cNvSpPr/>
            <p:nvPr/>
          </p:nvSpPr>
          <p:spPr>
            <a:xfrm>
              <a:off x="2139840" y="765000"/>
              <a:ext cx="5409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проводни систем срц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26"/>
          <p:cNvSpPr/>
          <p:nvPr/>
        </p:nvSpPr>
        <p:spPr>
          <a:xfrm>
            <a:off x="250920" y="700560"/>
            <a:ext cx="889308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роводни систем срца: с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оатријал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S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атриовентрикуларни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чвор, Хи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уркињеов систе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A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ч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зиолошки предводни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acemaker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чаног 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стабилан мировни потенциј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фаз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4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а деполаризациј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eaky 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nels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27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8471880" y="4755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297160" y="189000"/>
            <a:ext cx="50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ЦИОНИ ПОТЕНЦИЈАЛИ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V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вор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с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уркињ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истем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атентни пејсмејкери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м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вор ако 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имиран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2637000"/>
            <a:ext cx="914400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а ф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полариз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а одређује срчану фреквенцу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највећа 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вору (фа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краће траје), затим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вору, 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спорија је 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урки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SA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чвор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AV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чвор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Хис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урки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то је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вор предводник срчаног ритма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50920" y="5589720"/>
            <a:ext cx="748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чвор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60-100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пулса/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чвор 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40-60 импулса/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уркињеова влакна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15-40 импулса/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26"/>
          <p:cNvSpPr/>
          <p:nvPr/>
        </p:nvSpPr>
        <p:spPr>
          <a:xfrm>
            <a:off x="324000" y="475920"/>
            <a:ext cx="88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пора и спонтана деполаризац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узрок је пејсмејкерске 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утомат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као и пејсмејкерске активност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ки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астаје услед повећане проводљив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доводи 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ћел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050"/>
          <p:cNvSpPr/>
          <p:nvPr/>
        </p:nvSpPr>
        <p:spPr>
          <a:xfrm>
            <a:off x="250920" y="257760"/>
            <a:ext cx="85690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деполариз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гло повећањ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ог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овећане проводљивости з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ш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 узрокује повећа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улазак позитивних јон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Ca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у ћел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води потенцијал мембране близу равнотежног потенцијала 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онска база за фаз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 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различи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оне у комор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комор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Пуркиње-ов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лакнима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де је она резултат ула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26"/>
          <p:cNvSpPr/>
          <p:nvPr/>
        </p:nvSpPr>
        <p:spPr>
          <a:xfrm>
            <a:off x="324000" y="379800"/>
            <a:ext cx="86407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поларизациј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стаје као последица повећане проводљивости 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зласка јон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калијума,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доводи до реполаризације мембранског потенциј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Фаз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1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ису присутне у акционом потенцијал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спроводног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395280" y="201240"/>
            <a:ext cx="85694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 долази д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успоравања импулс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азло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дна влакна имају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мањи дијаметар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о влак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мало прелазних споје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повезује узастопна влакна па је велики отпор проласку јона кроз вла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79280" y="1268280"/>
            <a:ext cx="33530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зина пр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ајмања 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V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чв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пушта да се комо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вољно напуне пре нег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наступ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ихова контр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је брз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вођења кроз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њење комора може бити смањ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24000" y="549360"/>
            <a:ext cx="381636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зина провођењ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казује време које је потребно да би се ексцитација проширила кроз срчано тки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и 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еличине уласка позитивних јона у ћелију током фазе успона акционог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и улазак јона доводи до веће брзине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Највећа брзина провођења у спроводном систему срца ј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у Хис-Пуркињ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ов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систему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, што омогућава синхрону контракцију миокарда комора у систоли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1258920" y="1911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УНКЦИОНАЛНА АНАТОМИЈА СРЧАН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833840"/>
            <a:ext cx="38307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ркалатни диско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 јављају на крајевима ћел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Gap junctions –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орозне ве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 присутне на интеркалатним дисков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 с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утеви ниског отпо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међу ћелија који омогућавају брзи пренос акционог потенциј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јашњавају чињеницу да се срце понаша као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лектрични синцицију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ttp://www.austincc.edu/apreview/NursingPics/CardiacPics/Picture6.jpg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Ф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uni-em.com/wp-content/themes/uniem/i/products/cardiomin-2k.jpg"/>
          <p:cNvPicPr/>
          <p:nvPr/>
        </p:nvPicPr>
        <p:blipFill>
          <a:blip r:embed="rId1"/>
          <a:stretch/>
        </p:blipFill>
        <p:spPr>
          <a:xfrm>
            <a:off x="1692360" y="2852640"/>
            <a:ext cx="50403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50560" y="333000"/>
            <a:ext cx="88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а регистровања акционих потенцијала срца назива с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ФИЈА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парат којим се региструју акциони потенцијали срца зове с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Ф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ички запис који се добија притом назива с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М (ЕКГ)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струје се на посебном папиру који је подељен на милиметре вертикалним и хоризонталним линијама а на сваких 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 линије су подебљ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рзина кретања папира при регистровању износи 2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/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оризонтална оса - време (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4 s), вертикална оса - волтажа (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m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www.sweethaven02.com/MedTech/CardiacRhythm/571.ht4.gif"/>
          <p:cNvPicPr/>
          <p:nvPr/>
        </p:nvPicPr>
        <p:blipFill>
          <a:blip r:embed="rId1"/>
          <a:stretch/>
        </p:blipFill>
        <p:spPr>
          <a:xfrm>
            <a:off x="1332000" y="4365720"/>
            <a:ext cx="6076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Интерпретација ЕКГ–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http://www.merckmanuals.com/media/professional/figures/MMPE_07CVS_70_02_eps.gif"/>
          <p:cNvPicPr/>
          <p:nvPr/>
        </p:nvPicPr>
        <p:blipFill>
          <a:blip r:embed="rId1"/>
          <a:stretch/>
        </p:blipFill>
        <p:spPr>
          <a:xfrm>
            <a:off x="611280" y="119700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-360"/>
            <a:ext cx="51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Г запис је бифазичан (када је правац деполаризације под углом од 90° према осовини одвода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ови ЕКГ–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ла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деполаризација прет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постоји 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усни ритам (из SA чвор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не постоји →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најчешће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дални ритам (из AV чвор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krivulja"/>
          <p:cNvPicPr/>
          <p:nvPr/>
        </p:nvPicPr>
        <p:blipFill>
          <a:blip r:embed="rId1"/>
          <a:stretch/>
        </p:blipFill>
        <p:spPr>
          <a:xfrm>
            <a:off x="5148360" y="112536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8000" y="-360"/>
            <a:ext cx="51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сегмент = плато фаза потенцијала преткоморског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окарда,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пагација импулса кроз AV чвор и Хисов сноп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оелектрича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интервал = деполаризација преткомора, AV чвора и Хисовог сноп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-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интервал = Р талас + РQ сег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krivulja"/>
          <p:cNvPicPr/>
          <p:nvPr/>
        </p:nvPicPr>
        <p:blipFill>
          <a:blip r:embed="rId1"/>
          <a:stretch/>
        </p:blipFill>
        <p:spPr>
          <a:xfrm>
            <a:off x="5148360" y="112536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R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комплек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деполаризација 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сегмент =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то фаза потенцијала коморског миокар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електрич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тала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реполаризација 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T интервал = целокупна електрична активност ко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R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комплекс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сегмент + T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талас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124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krivulja"/>
          <p:cNvPicPr/>
          <p:nvPr/>
        </p:nvPicPr>
        <p:blipFill>
          <a:blip r:embed="rId2"/>
          <a:stretch/>
        </p:blipFill>
        <p:spPr>
          <a:xfrm>
            <a:off x="4932360" y="115920"/>
            <a:ext cx="4103640" cy="4149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4716360" y="4365720"/>
            <a:ext cx="442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тал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ек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дложена реполаризација Пуркињових влакана, продужена реполаризација миокарда комора, потенцијали услед механичке силе комор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и смер као Т тал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плитуда &lt;25% Т таласа (1-2 m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очљив при HR &lt; 65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Users\Gvozden Rosic\Desktop\ECG_principle_slow.gif"/>
          <p:cNvPicPr/>
          <p:nvPr/>
        </p:nvPicPr>
        <p:blipFill>
          <a:blip r:embed="rId1"/>
          <a:stretch/>
        </p:blipFill>
        <p:spPr>
          <a:xfrm>
            <a:off x="1763640" y="549360"/>
            <a:ext cx="5832720" cy="6308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2356200" y="0"/>
            <a:ext cx="49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пагација електричних потенцијала у ср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гистровање ЕКГ-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Г се стандардно региструје 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одво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са екстремитет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стандардна биполарна (I, II, III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појачана униполарна  (aVR, aVL, aVF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са прекордију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1 – V6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ваки ЕКГ одвод и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вину = права између постављених елект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јентацију = положај осовине (хоризонталан, вертикалан, дијагоналан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аритет = ло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ја позитивног и негативног пола електрода ЕКГ апарата које се налазе на крајевима осов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08000" y="303480"/>
            <a:ext cx="4968720" cy="64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Митохондр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бројније у срчаном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него у скелетном мишић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T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тубу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е инвагинације ћелијске мембра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-у срцу имају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већи дијаметар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го у скелетном миши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циране су у област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омогућавају преношење акционог потенцијала у унутрашњост ћел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бро су развијене у коморам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ли слабо у преткомор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рмирају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дијад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саркоплазматским ретикулу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држе волтаж-зависне протеине назване 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дихидропиридински рецеп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Саркоплазматски ретикулум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СР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 тубуле малог дијаметра које се налазе у близини контрактилних елемен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у места где се складиште и из кога се ослобађају јони калцијум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(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повезивање процеса ексцитације и контрак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држе канале за ослобађање калцијум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(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рианодински рецептор (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yR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dk6qunh1hkthr.cloudfront.net/content/nips/27/5/308/F1.large.jpg"/>
          <p:cNvPicPr/>
          <p:nvPr/>
        </p:nvPicPr>
        <p:blipFill>
          <a:blip r:embed="rId1"/>
          <a:stretch/>
        </p:blipFill>
        <p:spPr>
          <a:xfrm>
            <a:off x="4906800" y="1916280"/>
            <a:ext cx="4237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Чему служе одво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Биполарним стандардним одвод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, II, III) региструје се разлика у потенцијалу између два изабрана мес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кстрем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ојачаним униполарним екстремитет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VR, aVL, aVF)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рекордијал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1 – V6) одводима се региструје укупан потенцијал срца који стиже до одговарајућег екстремитета или тачке прекордију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кстремитетни одвод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 најчешће корист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за процену положаја срца у грудној дупљ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кордијални одвод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 углавном корист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за процену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ункционално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тања или оштећења срчаног мишић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Стандардн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биполарни одвод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8920" y="1413000"/>
            <a:ext cx="4032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 одвод = између десне руке (-) и леве руке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 одвод = између десне руке (-) и леве ноге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 одвод = између леве руке (-) и леве ноге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http://www.cvrti.utah.edu/~macleod/bioen/be6000/labnotes/ecg/figures/limbleads.jpg"/>
          <p:cNvPicPr/>
          <p:nvPr/>
        </p:nvPicPr>
        <p:blipFill>
          <a:blip r:embed="rId1"/>
          <a:stretch/>
        </p:blipFill>
        <p:spPr>
          <a:xfrm>
            <a:off x="4356000" y="1773360"/>
            <a:ext cx="444816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le 1"/>
          <p:cNvSpPr/>
          <p:nvPr/>
        </p:nvSpPr>
        <p:spPr>
          <a:xfrm>
            <a:off x="250920" y="189000"/>
            <a:ext cx="8229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ндардни  биполарни одвод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403280" y="1844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од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одво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 од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bipolarni odvodi"/>
          <p:cNvPicPr/>
          <p:nvPr/>
        </p:nvPicPr>
        <p:blipFill>
          <a:blip r:embed="rId1"/>
          <a:stretch/>
        </p:blipFill>
        <p:spPr>
          <a:xfrm>
            <a:off x="1332000" y="2781360"/>
            <a:ext cx="57052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и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униполарни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  <a:ea typeface="Arial"/>
              </a:rPr>
              <a:t>одво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R, aVL, aV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= појачање за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= волта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 (right)= десна ру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 (left)= лева р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 (foot)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е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н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п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паја са региструјућим електродама, 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гативан п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а нултом тачком за коју су унутрашњом синхронизацијом повезана сва три екстрем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http://www.cvphysiology.com/Arrhythmias/A013b%20ECG%20aug%20leads.gif"/>
          <p:cNvPicPr/>
          <p:nvPr/>
        </p:nvPicPr>
        <p:blipFill>
          <a:blip r:embed="rId1"/>
          <a:stretch/>
        </p:blipFill>
        <p:spPr>
          <a:xfrm>
            <a:off x="6156360" y="1341360"/>
            <a:ext cx="2808360" cy="49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3168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ниполар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кордијални од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83628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ложај електро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1 = 4. међуребарни простор уз десну ивицу стерн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2 = 4. међуребарни простор уз леву ивицу стерн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на средини између V2 и V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4 = 5. међуребарни простор на медиоклавикуларној линиј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5 = на предњој аксиларној лин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ста хоризонтална раван као V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6 = на средњој аксиларној лин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ight Brace 4"/>
          <p:cNvSpPr/>
          <p:nvPr/>
        </p:nvSpPr>
        <p:spPr>
          <a:xfrm>
            <a:off x="4572000" y="4221000"/>
            <a:ext cx="360360" cy="86364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63640"/>
              <a:gd name="textAreaBottom" fmla="*/ 8542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6"/>
                  <a:pt x="10800" y="751"/>
                </a:cubicBezTo>
                <a:lnTo>
                  <a:pt x="10800" y="10049"/>
                </a:lnTo>
                <a:cubicBezTo>
                  <a:pt x="10800" y="10425"/>
                  <a:pt x="16200" y="10800"/>
                  <a:pt x="21600" y="10800"/>
                </a:cubicBezTo>
                <a:cubicBezTo>
                  <a:pt x="16200" y="10800"/>
                  <a:pt x="10800" y="11176"/>
                  <a:pt x="10800" y="11551"/>
                </a:cubicBezTo>
                <a:lnTo>
                  <a:pt x="10800" y="20849"/>
                </a:lnTo>
                <a:cubicBezTo>
                  <a:pt x="10800" y="21225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24000" y="5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кордијални одводи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е углавном корис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за процену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функционално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тања или оштећења срчаног мишића*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857240" y="3860640"/>
            <a:ext cx="5365800" cy="2997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395280" y="148428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десн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септ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4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5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6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- лев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век се постматра у контексту промена које се региструју у осталим одв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http://www.cardiacscience.com/assets/006/5576.jpg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4033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Униполарни прекордијални одво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Шта се може одредити уз помоћ ЕКГ-а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Фрекве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Осовина (положај срц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тро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Инфар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traight Connector 4"/>
          <p:cNvSpPr/>
          <p:nvPr/>
        </p:nvSpPr>
        <p:spPr>
          <a:xfrm>
            <a:off x="684360" y="3645000"/>
            <a:ext cx="525600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25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Фрекве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 чвор = 60-10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 чвор = 40-6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ркињева влакна = 15-4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6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брад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10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тах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за математичко одређив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чане фреквенц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ν = 60s/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04s</a:t>
            </a:r>
            <a:r>
              <a:rPr b="0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број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мањ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вадратића између два узастопна R зуп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5724360" y="549360"/>
            <a:ext cx="30956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834560" y="260280"/>
            <a:ext cx="60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еквенца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одређ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56"/>
          <p:cNvPicPr/>
          <p:nvPr/>
        </p:nvPicPr>
        <p:blipFill>
          <a:blip r:embed="rId1"/>
          <a:stretch/>
        </p:blipFill>
        <p:spPr>
          <a:xfrm>
            <a:off x="4572000" y="3141720"/>
            <a:ext cx="4321080" cy="3359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64"/>
          <p:cNvPicPr/>
          <p:nvPr/>
        </p:nvPicPr>
        <p:blipFill>
          <a:blip r:embed="rId2"/>
          <a:stretch/>
        </p:blipFill>
        <p:spPr>
          <a:xfrm>
            <a:off x="108000" y="3068640"/>
            <a:ext cx="4392720" cy="3424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468360" y="1052640"/>
            <a:ext cx="7920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одређивање фреквенце на овај начин гледамо на ЕКГ запису вертикалне дебеле црвене линије (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упца који је “пао” на једну од дебелих вертикалних линија почињемо бројање до следећег (претходног или наредн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упц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ИТМИЧКА ЕКСЦИТАЦИЈА СР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162828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чани миши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се састоји и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адне мускулату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преткоморски и коморски мишић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проводног систе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специјализована мишићна влак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83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А чв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83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V чвор – АV сноп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83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сов сн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83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рк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а влак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58"/>
          <p:cNvPicPr/>
          <p:nvPr/>
        </p:nvPicPr>
        <p:blipFill>
          <a:blip r:embed="rId1"/>
          <a:stretch/>
        </p:blipFill>
        <p:spPr>
          <a:xfrm>
            <a:off x="179280" y="1413000"/>
            <a:ext cx="4753080" cy="3727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1762920" y="189000"/>
            <a:ext cx="60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еквенца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одређ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9280" y="134136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итам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же 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ан (регуларан, срчани циклуси се смењују у једнаким временским интервалим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ЕКГ-у једнаки размаци између узастопних R зуба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равилан (ирегуларан, аритм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броје се најмањи квадрати између узастопних R зубаца и упоређује време (1 квадрат = 0,04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http://www.bannerhealth.com/NR/rdonlyres/5CFF4A7B-01B5-4B7A-BF9B-02737DF18C02/24233/normal_heart_rhythm.jpg"/>
          <p:cNvPicPr/>
          <p:nvPr/>
        </p:nvPicPr>
        <p:blipFill>
          <a:blip r:embed="rId1"/>
          <a:stretch/>
        </p:blipFill>
        <p:spPr>
          <a:xfrm>
            <a:off x="4788000" y="2205000"/>
            <a:ext cx="4105080" cy="1440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pediatriccardiology.uchicago.edu/pp/Images/atrial_fib.jpg"/>
          <p:cNvPicPr/>
          <p:nvPr/>
        </p:nvPicPr>
        <p:blipFill>
          <a:blip r:embed="rId2"/>
          <a:stretch/>
        </p:blipFill>
        <p:spPr>
          <a:xfrm>
            <a:off x="4859280" y="4221000"/>
            <a:ext cx="396072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вина (положај) срца- средњи електрични вектор 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484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њи електрични вектор срца (средњи QRS вектор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средња јачина, смер и поларитет целокупног потенцијала сваког срчаног циклуса; смер срчаног вектора током деполаризације у фронталној рав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њи QRS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 одређује преко 3 или 6-осног система који се добијају укрштањем осовина свих 6 одвода фронталне равни (екстремитетни одводи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трална тачка система јесте центар тј. сре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овина одв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прецизно одређивање положаја средњег QRS вектора користи с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inthoven–ов з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афички Einthoven–ов троугао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ма овом закону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бир волтажа QRS комплекса I и III одвода једнак је збиру волтажа QRS комплекса II од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http://www.adinstruments.com/solutions/images/standard-leadscopy.gif"/>
          <p:cNvPicPr/>
          <p:nvPr/>
        </p:nvPicPr>
        <p:blipFill>
          <a:blip r:embed="rId1"/>
          <a:stretch/>
        </p:blipFill>
        <p:spPr>
          <a:xfrm>
            <a:off x="395280" y="1989000"/>
            <a:ext cx="4392720" cy="4032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53964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р средњег електричног вектора срца (средњег QRS вектора) мож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 одредити  двојак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ки = граф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зо одређивање смера средњег QRS 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70836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ontent Placeholder 2"/>
          <p:cNvSpPr/>
          <p:nvPr/>
        </p:nvSpPr>
        <p:spPr>
          <a:xfrm>
            <a:off x="457200" y="260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609480" y="412920"/>
            <a:ext cx="82296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ер средње електричне осовине срца се одређује тако што се прво одреди збир → волтажа R – (S + Q) и смер (позитивна/негативна волтажа) волтаже QRS комплекса било која два од три стандардна од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су нето волтаж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носе се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ловину осе и обрну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www.medicine-on-line.com/html/ecg/e0001en_files/image126.png"/>
          <p:cNvPicPr/>
          <p:nvPr/>
        </p:nvPicPr>
        <p:blipFill>
          <a:blip r:embed="rId1"/>
          <a:stretch/>
        </p:blipFill>
        <p:spPr>
          <a:xfrm>
            <a:off x="3492360" y="3213000"/>
            <a:ext cx="3383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http://media.jaapa.com/images/2010/07/29/ecg_lead_angulation_112669_112670.gif"/>
          <p:cNvPicPr/>
          <p:nvPr/>
        </p:nvPicPr>
        <p:blipFill>
          <a:blip r:embed="rId1"/>
          <a:stretch/>
        </p:blipFill>
        <p:spPr>
          <a:xfrm>
            <a:off x="5796000" y="3860640"/>
            <a:ext cx="2808360" cy="2664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http://www.madsci.com/manu/ekg_pics/vector.gif"/>
          <p:cNvPicPr/>
          <p:nvPr/>
        </p:nvPicPr>
        <p:blipFill>
          <a:blip r:embed="rId2"/>
          <a:stretch/>
        </p:blipFill>
        <p:spPr>
          <a:xfrm>
            <a:off x="755640" y="400536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www.vhlab.umn.edu/~bmen3701/Images/lead_axis_reference.gif"/>
          <p:cNvPicPr/>
          <p:nvPr/>
        </p:nvPicPr>
        <p:blipFill>
          <a:blip r:embed="rId3"/>
          <a:stretch/>
        </p:blipFill>
        <p:spPr>
          <a:xfrm>
            <a:off x="755640" y="765000"/>
            <a:ext cx="7632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5"/>
          <p:cNvSpPr/>
          <p:nvPr/>
        </p:nvSpPr>
        <p:spPr>
          <a:xfrm>
            <a:off x="2340000" y="2565360"/>
            <a:ext cx="3209760" cy="90360"/>
          </a:xfrm>
          <a:prstGeom prst="rightArrow">
            <a:avLst>
              <a:gd name="adj1" fmla="val 50000"/>
              <a:gd name="adj2" fmla="val 888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 rot="8128200">
            <a:off x="2053440" y="2597040"/>
            <a:ext cx="3210120" cy="90720"/>
          </a:xfrm>
          <a:prstGeom prst="rightArrow">
            <a:avLst>
              <a:gd name="adj1" fmla="val 50000"/>
              <a:gd name="adj2" fmla="val 8846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7"/>
          <p:cNvCxnSpPr/>
          <p:nvPr/>
        </p:nvCxnSpPr>
        <p:spPr>
          <a:xfrm>
            <a:off x="3708360" y="2565000"/>
            <a:ext cx="5814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6" name="AutoShape 8"/>
          <p:cNvCxnSpPr/>
          <p:nvPr/>
        </p:nvCxnSpPr>
        <p:spPr>
          <a:xfrm flipH="1">
            <a:off x="3059280" y="2565360"/>
            <a:ext cx="638280" cy="66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7" name="AutoShape 9"/>
          <p:cNvCxnSpPr/>
          <p:nvPr/>
        </p:nvCxnSpPr>
        <p:spPr>
          <a:xfrm>
            <a:off x="4284360" y="2565000"/>
            <a:ext cx="1080" cy="21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AutoShape 10"/>
          <p:cNvCxnSpPr/>
          <p:nvPr/>
        </p:nvCxnSpPr>
        <p:spPr>
          <a:xfrm>
            <a:off x="3059280" y="3213000"/>
            <a:ext cx="1553040" cy="15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AutoShape 11"/>
          <p:cNvCxnSpPr/>
          <p:nvPr/>
        </p:nvCxnSpPr>
        <p:spPr>
          <a:xfrm>
            <a:off x="3708360" y="2637000"/>
            <a:ext cx="581400" cy="1838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0" name=""/>
          <p:cNvSpPr txBox="1"/>
          <p:nvPr/>
        </p:nvSpPr>
        <p:spPr>
          <a:xfrm>
            <a:off x="468000" y="69228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ви одв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Угао под којим се срце налаз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у грудној дупљи (59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ећи од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мер средње електричне осовине ср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us 15"/>
          <p:cNvSpPr/>
          <p:nvPr/>
        </p:nvSpPr>
        <p:spPr>
          <a:xfrm>
            <a:off x="5003640" y="2276640"/>
            <a:ext cx="289080" cy="215640"/>
          </a:xfrm>
          <a:custGeom>
            <a:avLst/>
            <a:gdLst>
              <a:gd name="textAreaLeft" fmla="*/ 38160 w 289080"/>
              <a:gd name="textAreaRight" fmla="*/ 250920 w 289080"/>
              <a:gd name="textAreaTop" fmla="*/ 82440 h 215640"/>
              <a:gd name="textAreaBottom" fmla="*/ 133200 h 215640"/>
            </a:gdLst>
            <a:ahLst/>
            <a:rect l="textAreaLeft" t="textAreaTop" r="textAreaRight" b="textAreaBottom"/>
            <a:pathLst>
              <a:path w="288925" h="215900">
                <a:moveTo>
                  <a:pt x="38297" y="82560"/>
                </a:moveTo>
                <a:lnTo>
                  <a:pt x="119073" y="82560"/>
                </a:lnTo>
                <a:lnTo>
                  <a:pt x="119073" y="28618"/>
                </a:lnTo>
                <a:lnTo>
                  <a:pt x="169852" y="28618"/>
                </a:lnTo>
                <a:lnTo>
                  <a:pt x="169852" y="82560"/>
                </a:lnTo>
                <a:lnTo>
                  <a:pt x="250628" y="82560"/>
                </a:lnTo>
                <a:lnTo>
                  <a:pt x="250628" y="133340"/>
                </a:lnTo>
                <a:lnTo>
                  <a:pt x="169852" y="133340"/>
                </a:lnTo>
                <a:lnTo>
                  <a:pt x="169852" y="187282"/>
                </a:lnTo>
                <a:lnTo>
                  <a:pt x="119073" y="187282"/>
                </a:lnTo>
                <a:lnTo>
                  <a:pt x="119073" y="133340"/>
                </a:lnTo>
                <a:lnTo>
                  <a:pt x="38297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us 16"/>
          <p:cNvSpPr/>
          <p:nvPr/>
        </p:nvSpPr>
        <p:spPr>
          <a:xfrm>
            <a:off x="2268360" y="3500280"/>
            <a:ext cx="287640" cy="216000"/>
          </a:xfrm>
          <a:custGeom>
            <a:avLst/>
            <a:gdLst>
              <a:gd name="textAreaLeft" fmla="*/ 38160 w 287640"/>
              <a:gd name="textAreaRight" fmla="*/ 249480 w 28764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87337" h="215900">
                <a:moveTo>
                  <a:pt x="38087" y="82560"/>
                </a:moveTo>
                <a:lnTo>
                  <a:pt x="118279" y="82560"/>
                </a:lnTo>
                <a:lnTo>
                  <a:pt x="118279" y="28618"/>
                </a:lnTo>
                <a:lnTo>
                  <a:pt x="169058" y="28618"/>
                </a:lnTo>
                <a:lnTo>
                  <a:pt x="169058" y="82560"/>
                </a:lnTo>
                <a:lnTo>
                  <a:pt x="249250" y="82560"/>
                </a:lnTo>
                <a:lnTo>
                  <a:pt x="249250" y="133340"/>
                </a:lnTo>
                <a:lnTo>
                  <a:pt x="169058" y="133340"/>
                </a:lnTo>
                <a:lnTo>
                  <a:pt x="169058" y="187282"/>
                </a:lnTo>
                <a:lnTo>
                  <a:pt x="118279" y="187282"/>
                </a:lnTo>
                <a:lnTo>
                  <a:pt x="118279" y="133340"/>
                </a:lnTo>
                <a:lnTo>
                  <a:pt x="38087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inus 17"/>
          <p:cNvSpPr/>
          <p:nvPr/>
        </p:nvSpPr>
        <p:spPr>
          <a:xfrm>
            <a:off x="2268360" y="2349360"/>
            <a:ext cx="216000" cy="216000"/>
          </a:xfrm>
          <a:custGeom>
            <a:avLst/>
            <a:gdLst>
              <a:gd name="textAreaLeft" fmla="*/ 28440 w 216000"/>
              <a:gd name="textAreaRight" fmla="*/ 187560 w 21600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187282" y="82560"/>
                </a:lnTo>
                <a:lnTo>
                  <a:pt x="187282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Minus 19"/>
          <p:cNvSpPr/>
          <p:nvPr/>
        </p:nvSpPr>
        <p:spPr>
          <a:xfrm>
            <a:off x="4500720" y="1413000"/>
            <a:ext cx="215640" cy="215640"/>
          </a:xfrm>
          <a:custGeom>
            <a:avLst/>
            <a:gdLst>
              <a:gd name="textAreaLeft" fmla="*/ 28440 w 215640"/>
              <a:gd name="textAreaRight" fmla="*/ 187200 w 215640"/>
              <a:gd name="textAreaTop" fmla="*/ 82440 h 215640"/>
              <a:gd name="textAreaBottom" fmla="*/ 133200 h 21564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187282" y="82560"/>
                </a:lnTo>
                <a:lnTo>
                  <a:pt x="187282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rved Left Arrow 20"/>
          <p:cNvSpPr/>
          <p:nvPr/>
        </p:nvSpPr>
        <p:spPr>
          <a:xfrm>
            <a:off x="3851280" y="2565360"/>
            <a:ext cx="360360" cy="43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74160 h 432000"/>
              <a:gd name="textAreaBottom" fmla="*/ 312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11927"/>
                </a:lnTo>
                <a:arcTo wR="21600" hR="7420" stAng="0" swAng="3184222"/>
                <a:lnTo>
                  <a:pt x="5400" y="21364"/>
                </a:lnTo>
                <a:lnTo>
                  <a:pt x="0" y="17094"/>
                </a:lnTo>
                <a:lnTo>
                  <a:pt x="5400" y="12351"/>
                </a:lnTo>
                <a:lnTo>
                  <a:pt x="5400" y="14604"/>
                </a:lnTo>
                <a:arcTo wR="21600" hR="7420" stAng="3184222" swAng="-2809280"/>
                <a:lnTo>
                  <a:pt x="20580" y="9674"/>
                </a:lnTo>
                <a:arcTo wR="21600" hR="7420" stAng="-374943" swAng="-5025057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11927"/>
                </a:lnTo>
                <a:arcTo wR="21600" hR="7420" stAng="0" swAng="-374943"/>
                <a:lnTo>
                  <a:pt x="20580" y="9674"/>
                </a:lnTo>
                <a:arcTo wR="21600" hR="7420" stAng="-374943" swAng="-5025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22"/>
          <p:cNvCxnSpPr/>
          <p:nvPr/>
        </p:nvCxnSpPr>
        <p:spPr>
          <a:xfrm>
            <a:off x="4211280" y="2852280"/>
            <a:ext cx="230544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7" name="Straight Arrow Connector 24"/>
          <p:cNvCxnSpPr/>
          <p:nvPr/>
        </p:nvCxnSpPr>
        <p:spPr>
          <a:xfrm>
            <a:off x="3995280" y="3499920"/>
            <a:ext cx="180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98" name="Picture 18" descr="ekg traka I odvod"/>
          <p:cNvPicPr/>
          <p:nvPr/>
        </p:nvPicPr>
        <p:blipFill>
          <a:blip r:embed="rId1"/>
          <a:stretch/>
        </p:blipFill>
        <p:spPr>
          <a:xfrm>
            <a:off x="5796000" y="692280"/>
            <a:ext cx="2560680" cy="64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ekg traka III odvod"/>
          <p:cNvPicPr/>
          <p:nvPr/>
        </p:nvPicPr>
        <p:blipFill>
          <a:blip r:embed="rId2"/>
          <a:stretch/>
        </p:blipFill>
        <p:spPr>
          <a:xfrm>
            <a:off x="5796000" y="1557360"/>
            <a:ext cx="25606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рзо одређивање смера средњег QRS век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560" y="134136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исте се нето волтаже у I стандардном биполарном одводу и нето волтажа aV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Екстремна дес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девиј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кстрем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лева девиј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(левогра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ормог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Дес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Девиј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(декстрогра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http://flylib.com/books/2/569/1/html/2/19.%20Basic%20ECG%20Reading_files/loadBinary_019.gif"/>
          <p:cNvPicPr/>
          <p:nvPr/>
        </p:nvPicPr>
        <p:blipFill>
          <a:blip r:embed="rId1"/>
          <a:stretch/>
        </p:blipFill>
        <p:spPr>
          <a:xfrm>
            <a:off x="1908000" y="2349360"/>
            <a:ext cx="4967640" cy="4032360"/>
          </a:xfrm>
          <a:prstGeom prst="rect">
            <a:avLst/>
          </a:prstGeom>
          <a:ln w="0">
            <a:noFill/>
          </a:ln>
        </p:spPr>
      </p:pic>
      <p:cxnSp>
        <p:nvCxnSpPr>
          <p:cNvPr id="203" name="Straight Arrow Connector 5"/>
          <p:cNvCxnSpPr/>
          <p:nvPr/>
        </p:nvCxnSpPr>
        <p:spPr>
          <a:xfrm flipV="1">
            <a:off x="5579640" y="3573000"/>
            <a:ext cx="1801080" cy="288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4" name="Straight Arrow Connector 6"/>
          <p:cNvCxnSpPr/>
          <p:nvPr/>
        </p:nvCxnSpPr>
        <p:spPr>
          <a:xfrm>
            <a:off x="4643280" y="4436640"/>
            <a:ext cx="259344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5" name="Straight Arrow Connector 7"/>
          <p:cNvCxnSpPr/>
          <p:nvPr/>
        </p:nvCxnSpPr>
        <p:spPr>
          <a:xfrm flipH="1" flipV="1">
            <a:off x="1618920" y="2996640"/>
            <a:ext cx="2305440" cy="937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6" name="Straight Arrow Connector 8"/>
          <p:cNvCxnSpPr/>
          <p:nvPr/>
        </p:nvCxnSpPr>
        <p:spPr>
          <a:xfrm flipH="1">
            <a:off x="1258560" y="4581360"/>
            <a:ext cx="2304000" cy="50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97160" y="189000"/>
            <a:ext cx="506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ЦИОНИ ПОТЕНЦИЈАЛИ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24000" y="927360"/>
            <a:ext cx="8569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. Коморе, преткоморе и Пуркињеов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ју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стабилан мировни мембрански потенција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од ок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90 mV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 вредност се приближава вредности равнотежног потенцијала 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акциони потенцијал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дуго тра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чито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ркињеовим влакн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де трају ок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00 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474480" y="4292640"/>
            <a:ext cx="17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зе акцион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4000" y="147960"/>
            <a:ext cx="8515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деполариз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гли скок потенциј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е пролазним повећањем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водљивости 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ш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доводи до уласка позитив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поларизује мембр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енцијал тежи равнотежном потенцијалу 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66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24000" y="313560"/>
            <a:ext cx="83516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ицијална реполариз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о тра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е као последиц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зласка позитивног наелектрисања из ћели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делом услед изласка јон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из ћели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воризова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 стране хемијског и електричног градијен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 делом услед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мањене проводљивости за јоне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0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395280" y="45720"/>
            <a:ext cx="84978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"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ционог потенција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е 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лазног повећања проводљивости з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доводи 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ска позитивних јо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уз истовремено смањење проводљивости 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злазак и улазак јона је приближно и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 да се потенцијал мембране током ове фазе одржава н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стом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воу (пла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324000" y="258480"/>
            <a:ext cx="882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полариз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водљив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ј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смањ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к се проводљив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ј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исока проводљивост за ј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води до повећаног излас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враћа 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мбране прем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внотежном потенцијалу з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олар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korisnik</cp:lastModifiedBy>
  <dcterms:modified xsi:type="dcterms:W3CDTF">2016-09-29T09:02:17Z</dcterms:modified>
  <cp:revision>208</cp:revision>
  <dc:subject/>
  <dc:title>Slide 1</dc:title>
</cp:coreProperties>
</file>